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FB3-EC2B-4BA8-956E-1A85BD26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8F5-DC01-428A-B468-F50B1E0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BA7D-F016-41E2-BFBB-4187143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0BE46-DC05-44E1-9057-8065924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5BD2B-D007-4603-9C9C-7990D19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F262B-1646-4B8B-87D4-593DA04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0FBF-9942-405F-9EB1-286FD92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E8F51-033B-4E57-8C87-81348B8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E531-F141-402F-A6A6-7A7D9C0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DE470-87E9-43D4-A4C5-75A759E2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C7F8-3B22-45C8-B279-0EB330C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9BE9B-FA10-4E90-A2FB-DB09A1B5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1C7-FEE9-4068-948A-2E3C2681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1AE97-6596-4D29-8104-9208E47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E9C5B-5515-479F-A21B-66A8B1E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17A36-B6B5-436F-AD35-E7910BF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E1704-CE81-41FE-8042-8E1DAC2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7E331-B94B-422E-854F-557DA97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A5A64-BAEB-4C95-A239-F6EF837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FCD97-20A8-4A08-A979-3B991D4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0324-7E1D-40ED-8854-808483D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DF0C9-26A3-4F27-9AE5-79B5351D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AE18-BD60-4797-8F96-76F59281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764-D5AD-4468-B9E0-7BAE0003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995AB-07F7-460A-B70F-5F3ED267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BBE2-D3BD-4275-AC5A-BDBF8FA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E802-12D3-42F5-843C-6F7E100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8D5D-F9A3-403A-91F7-0E449AA1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CC10B-BC35-4A14-A6FA-0F8BABC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4F5F-898B-4BD3-85F0-0B7B999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66634-8A9D-4CA9-9B8E-DD43E8C0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54BDA-9253-42BD-970A-6D4CBFF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28B5-9161-41C7-A89D-0182DDF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24B1-AEEE-492F-9AA1-8BC43E3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66A-AB01-41BE-86DA-E7B5E6D9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B7C3-EB35-4DCA-8A30-6701092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2E844-DF07-4F9C-BD0A-457D7CDA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9E86C-710D-4689-99E4-1428EEF2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6D892-8238-472F-B6F2-4B5F5BEC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71647-2D0C-4352-91E9-DA8D70C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1CB2-6385-4638-AF04-E36B0DA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68169-CBF1-4E48-AA52-591533AD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6EAF7-D5C8-4306-851C-6E543AA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2037E-386B-4DEF-A236-FEEFECF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D6CB3-1352-48C0-B658-DA3639BB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7D1-A256-4250-82F7-0CF7CCB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FEF50-49BF-4CB5-A977-B2BAF94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DF493-0A64-4D54-9F10-8AA0A9D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36A36-1E9C-4BF3-8437-CF9973A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CB6E0-44EE-470D-B128-791A879D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92B06-C413-48EB-B477-C5ACD05B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1D2A1-82E3-4383-8BD7-9206298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1FA68-8F81-456D-8A5A-37CFE9A2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C996A-181E-4EAD-82B7-D1E083F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90014-2235-40CA-AD05-5119B8D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6C9D9-A78A-448E-9978-D94FD0C9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A61D-8C8D-4499-8AD1-D009032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9675C-A4B7-4AE9-81A8-149912D2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C537B-E1CC-42A6-9842-2FDE043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24FE0-0062-409B-83F9-8FD5FD9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4FB95-035F-42D2-950A-0F3C52E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5EF70-B9FE-4ED6-807C-BF40501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F05E0-4E66-445E-83BA-034B712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10BF1-8582-4857-8E38-14F45D6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55EF2-78B7-49C8-BB36-97999EA8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C8110-7455-41D8-94BF-01B76D7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6FCD8-A380-48A4-846C-DDBF8C60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64C0-2FAC-4D08-B8DC-01675BD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AA893-2330-4A50-BFD1-F7FD446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C09C6-09DC-4D07-AD92-1B9E97D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E8ACA-194F-4E6D-ABED-AFA488F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C840D-3705-48EC-8DCA-3176F60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E8612-D58D-44C8-9854-CB1B31E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3D811-F5AB-41A6-A5EA-E00D200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66832-92D6-4DB2-9F56-73CC3D7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6DF81-996C-4BDE-A176-7E8C5D76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55008-7AB6-4C25-9B2E-AF45D98E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88449-9F8B-4BA3-A57C-56B2B5EE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EC86-0AAF-4677-9BD8-C4AFCCD6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606F0-617E-43AC-A785-2C7DDAD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DA079-7C84-4EEB-91F7-F1258922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43E22-902D-4DF3-A86C-EDFBD63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A950C-ED41-445C-9AFD-008A3FD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B66C0-30ED-41FA-8F77-EA97AF6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5E43E-2E49-4D6C-96F5-7B42BC3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C0031-E7F6-4B13-AF08-130A726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6DE77-918B-4133-942D-C63DCA8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8555F-FAF2-40CD-B589-EEE0B2CC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86E74-3390-498B-980D-ADBB96AB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818B-7C22-48A1-9AB7-01943B3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C3A8D-0D2D-4E2F-8E2F-F56247EA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9F473-9215-4AD1-A701-F47492BC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672FA-DB56-427B-9004-C0710C7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C4317-2CD2-40FD-A323-1E5CD8EB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3C95B-71E3-4E76-9878-E2B4D81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60CCB-198D-4529-9DDC-3BE3946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A7C53-7A8B-43F8-B64D-E7DB5A57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99B34-9CD9-4935-B3F9-31FB2AE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C6BE4-78F5-4C4F-8C1D-8DC17AC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A8D0C-079C-4380-AB74-699273E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9EF3-B183-4C70-8673-17678E2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061BD-BAD2-4964-85A5-6F7BD65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6FC29-4ECC-47E0-A45B-5B331C9D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C0E0E-5CB6-4A7C-A67F-BB94783F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7EA1C-CF76-4AF4-9B3B-29FDDE1E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ACC1C-3B1C-47D9-8F82-0C978B6E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48BBE-EA8A-40EF-BF6D-155426B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5359E-D55F-4148-9DDD-8428A06E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FC38F-961B-4140-A362-0FA1D54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5C665-78B7-4EFF-977C-D8BDC083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05368-7DF7-4AD0-8B57-5442517B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93C-A539-4A71-9095-F5D276D4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203A-9665-4A02-A61C-4973344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4E1A8-0D69-4052-8753-EBD1D58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BF827-7861-43C8-B9A0-6EAC020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67080-329A-4BF1-A2CA-F74941F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2AE4D-3F25-4CA1-94DD-47510535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4BC58-2EC2-4A68-BF2F-80DD215D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A227B-DFF2-4AB5-911B-CDD81EFE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AE145-ED78-41E9-8827-028BA49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1E2DD-8016-4F2E-BED6-34EDB6A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A8509-E000-4666-909F-693E8EE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4524D-DC95-4D9B-9272-E3D0434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C6C-3A28-42BD-9D35-0146706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0D535-2609-470D-9173-3821504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37531-EF03-4F46-ADB0-3FDC556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7E2D0-F56C-4626-9E7F-35A32F1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A44B0-2EAD-4EFE-B649-0ED865A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1EBC1-2D18-4F96-8A61-8B339FE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2D183-B93F-4150-B73A-C192A90C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3A8C8-A325-4FC9-B754-EA337DEF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DDF8-B295-4501-BDAB-05F99DF2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68A-FEFE-4F7F-95FF-E4BADDAE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B1C8-5CA2-496F-A349-B49938C2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03E6-8647-41A0-8FD0-F55E24CE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6BAF-767C-40FD-80E6-763A9593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9ACE-AC17-4911-9FF7-103918A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A725-761E-4707-B55E-AFFEA43F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43A6-8326-43CA-A026-628237D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5A3-FBC0-4715-BCD1-A6C5E12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1110-F8C3-4DF9-B472-7DC8BA6B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38D9-868C-4BE7-9DE2-CE8EBF4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2D1D-0DA1-4BEB-91FE-9837A67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8CBB-7CF9-4022-88C5-2383F40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8E6D-F77C-42A9-9546-EA35200C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B05E-6FE2-4CC7-8003-0F55FE12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1433-ED0A-4881-B999-67A8E0D9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84AF-55C5-4EC1-9FAA-13F8E23C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E447-D15D-4EAF-A7FF-B7C7BB75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C12C-DD9D-4163-B4BB-E9D86A1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9C0-835C-4BCD-8689-A19E4734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F652-7098-4A6F-A911-0993E6A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DF23-B630-481C-9E46-A903C113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5A2F-1FD8-4901-8768-E409BD3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4F3A-7B2F-4F0C-9567-33B7EDC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3975-B3F3-44FF-AD92-718BEB9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9BF6-BD38-4A5E-B245-6DD6C32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C14A-1D7C-4F63-B681-AEBC8C3E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EE56-BBF5-40A6-83F3-A69BF7B3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7E34-1041-4DA0-9D24-49FABA64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220E1-DB7C-4FB7-AD9E-8E288B73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177-1C13-41DA-BDF8-5CCEEDD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0F56-6F7E-435E-AC50-21AC872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3219-FEC1-4CE1-9E1C-C591FFC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C6FD-5390-4B0E-B9C9-A63932B5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5226-991F-432F-A28D-2874C2F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A305-BE5A-4B69-A53B-9F646B8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64EC5-ECDA-49E4-9764-726E39C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6142-441B-4DE9-9756-0A7EA0B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CB2C-D3E0-49A9-8FFD-3C2D3A9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5F68-B2A4-449B-A548-B4FB9D9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21B0-293A-4CF3-972B-3B31DAD2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BD6-486A-4804-B995-E0E44E1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74EBB-9E72-43BB-ADCB-92992D8E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96C3-1425-4B42-9C1F-458D2FE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C621-A420-4B8B-9DB7-7675E97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AB4D-0713-40C9-80A9-D42696A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71E7-B5DF-4210-901C-D0B23BA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3D5C-1D09-427F-9352-A76CF49D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4C76-F035-4550-B0FB-E133F77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FE0B-D50D-4C2C-ACE6-F402401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02E2-D532-45AD-B935-53F956F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06EDB-6401-435F-B72C-A1E2A7C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A3F-EA21-4771-9F3A-2676951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29BE-E8DE-4473-878D-AF84E290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7CC2-549D-46C9-BFF8-611E143D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3513-430A-4A28-A5D6-D83888AD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B290-D1EB-496E-B78F-F6B71A4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70C7-5722-4910-BFF1-69744B0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EB5A-731A-415A-9F0D-1D77601E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D41E-055E-41F4-81D4-7B2B7C7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C3A7-8168-4BAE-8F7D-E9517AEC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B253-2D4D-4A28-B6D8-03E9382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B956-976A-48EB-81DD-1FFF729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05E-263B-4813-B54C-EE74A22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C674-7B7C-42FF-8C63-FA2DCD3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A962-CA9F-4531-9C44-013DC6C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F4AD-5077-4CF7-A170-7A898C7B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1AC7-3042-494E-8BA6-33955DC6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E905-811E-4D9C-BCBA-E218627C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4B85-EBD0-4DD4-A207-2E8BEE63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2177C-E962-4DA9-9EDF-6FAD94F0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49B8-D538-4391-956D-D20AAB1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96DE-32BF-42D6-9C3A-99E4291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2CC4-B6D0-4AD9-87E8-9D5EBEA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340-C531-449C-941C-7E415D0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63E7-317B-46E8-A905-8D3E2410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FD7E-4097-4560-A889-BDA058B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D01F-FB63-4BCB-9BAC-1EEE70C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FC70-CEA7-42C8-92C8-9F161CD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DC24D-D142-45AE-BBE6-26492B9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8D8CF-48E1-4212-A47D-8F69D013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FD3A8-C9C6-46FE-BDD4-28EE284B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B2FE9-947D-4C91-A8A5-8DC4A4EF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74CB-16BC-49BD-A3C3-20249C5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07DB-B7AA-4561-A23D-CC381633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52BE1-CA19-4308-9EB3-3B3AE9C135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CA30E-0C06-4D48-AA81-B4C5AE8F0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ED239-00D2-4357-AD00-FEA6C00D06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F85DA-8B86-479E-9204-08246DB13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AEF7C-27D1-4921-BCF0-0809E22C6E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74F7-805D-4FDF-B840-148F4C94B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1A406-D72D-441F-8FDD-6729B07866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C0F2A-DFDA-4E18-A6D2-1042BB6DE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B5DF-7978-4CFC-A2E0-A07A5A4497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ADC23-2A7E-4373-9583-C4DBB3F43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D4D4B-7695-4025-9F3B-4DCF7A1A32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AE0B1-9CD4-4942-A51B-5DAD69972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82641-C821-40FE-B2CA-4C8B87BDC2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FE5EE-B979-4E40-8FE1-89063613D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F9416-9AB4-485A-B0AF-2B3CB33428F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32D5B-8D16-4B3D-B245-7812F4859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C1A52-42D2-4F62-B8D1-EF38ABA13A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F3CCC-C8B8-4029-B043-48D5C4F2A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E4A9E-B97E-480F-9F23-F42100053E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C84AA-946B-4CAA-B88E-930F3F694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E68A8-9FBE-45ED-8EF6-44CFDF5F1C7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4394D-5D1C-4A99-A702-B58B7269A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7CA5B-E41F-431F-B7C0-357762DEA6E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E849E-A91D-478C-B88E-2A6A23CBA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5F009-CBE9-4B69-B6F5-AFF05D29DC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25177-0E25-4CD9-B986-478491B34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39C23-761C-421C-A535-18C47F6747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81253-B0CE-4334-964B-888934CEA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C237E-19A1-48FA-BDB2-396BA9D59B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9064B-6878-4E24-B9D2-47C67A600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43D8B-3145-47A1-A0CE-63CEEEC96E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DDF94-0132-4F95-80FE-A873A5FD9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FB98-9110-4B17-94DC-73325D4D8B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C90E9-57B1-4FB1-A364-013E34453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B18B5-3A86-4BD4-82E1-E73F2D29DA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77F28-9273-4E58-9827-2EDBE9840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429BA-C924-4D3D-B225-D61AEB3F295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8607C-F10C-4613-850A-D62EE6D45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–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138480"/>
            <a:ext cx="56563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Suhaimi Huss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enior Lecturer &amp; Consultant Paediatric Endocrinologist, Universiti Sains Malaysia, Kelan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Janet Hong Yeow H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Consultant Paediatric Endocrinolog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Hospital Putrajaya, Putraja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Ms. Chow Yen N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Pharmac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Klinik Kesihatan Batu, Kuala Lum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EA99D-D7A5-4ECC-A108-CBE3BFF9C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25200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777960" y="966960"/>
            <a:ext cx="7588080" cy="32716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1017720" y="4238640"/>
            <a:ext cx="7351560" cy="2001960"/>
          </a:xfrm>
          <a:prstGeom prst="rect">
            <a:avLst/>
          </a:prstGeom>
          <a:ln w="0">
            <a:noFill/>
          </a:ln>
        </p:spPr>
      </p:pic>
      <p:sp>
        <p:nvSpPr>
          <p:cNvPr id="84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EE728-6DCD-4EC9-91A8-B6593E7C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45960"/>
            <a:ext cx="7886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8560" y="1371240"/>
            <a:ext cx="79948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know the effect of carbohydrate on sugar by knowing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to carbohydrate ratio (IC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 is defined a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ount of carbohydrate in grammes covered by one unit (IU) of rapid-acting or short-acting insu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500 rule for rapid-acting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450 rule for short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0C104-4C59-4169-80B5-D7C1F47F5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2522520" y="367344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CR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50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2533680" y="514980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CR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45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8AF1A-B728-47D9-9CB6-2853C99D7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1476360" y="2692440"/>
            <a:ext cx="649764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CR : 450/21 = 2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or ≈ 20 g for 1 IU of insu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936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28560" y="1246320"/>
            <a:ext cx="788688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F is defined a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ount of BG in mmol/L reduced by one unit (IU) of rapid-acting or short-acting insulin &amp; used to correct hyperglycaem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100 rule is for rapid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83 rule is for short-acting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.g : ISF = 83/21 = 3.9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or 1 unit of insulin → BG drop of ≈ 4 mmol/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AB62-9ED1-4775-B032-6D28E7E0A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"/>
          <p:cNvSpPr/>
          <p:nvPr/>
        </p:nvSpPr>
        <p:spPr>
          <a:xfrm>
            <a:off x="2270160" y="285444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SF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100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"/>
          <p:cNvSpPr/>
          <p:nvPr/>
        </p:nvSpPr>
        <p:spPr>
          <a:xfrm>
            <a:off x="2317680" y="4067280"/>
            <a:ext cx="3862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SF =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______83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daily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383760"/>
            <a:ext cx="78868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1247400"/>
            <a:ext cx="78868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G pre-dinner: 15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unch intake: 60 g carbohydrate, was given 3 IU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 to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CR = 60/</a:t>
            </a:r>
            <a:r>
              <a:rPr b="0" lang="en-MY" sz="2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* =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SF = 15 - 6/4** = 2.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deally the total lunch insulin dose should be ≈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5.5 I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ICR = 450/21 = 21.4  or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 for 1 IU of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*ISF = 83/21= 3.95 or 1 IU of insulin → drop of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548235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ol/L 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CBCA0-E082-4D8A-B2CD-750574124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28560" y="2050560"/>
            <a:ext cx="788688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What are the other issues that you need to counsel patient before dischar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77BCB-7205-4BD6-AB04-8CDCAC2A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628560" y="206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Sick da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6AA6B-D520-4F3A-9C1B-27379D2A0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5796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28560" y="2039400"/>
            <a:ext cx="788688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oy was discharged &amp; seen in your clinic after 2 week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rom his BG diary, he had a few episodes of hypoglycaemia at pre-din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65371-09C1-41A3-82AD-6256B88C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2063520"/>
            <a:ext cx="788688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do you manage his pre-dinner hypoglycaem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AECD9-0232-4DF8-BBCB-6A007C400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2063880"/>
            <a:ext cx="78868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dentify causes of hypoglycaem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Activity (post-exerci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C626D-B6E6-4404-A18A-8043E97A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1800"/>
            <a:ext cx="788688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118880"/>
            <a:ext cx="788688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10-year boy was started on SC actrapid 3 - 5 IU tds &amp; SC insulatard 10 IU at bed time (DKA resolved after treat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following is the BG monitoring in the ward: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CBG mmol/L (insulin d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803160" y="3225960"/>
          <a:ext cx="7550280" cy="2927160"/>
        </p:xfrm>
        <a:graphic>
          <a:graphicData uri="http://schemas.openxmlformats.org/drawingml/2006/table">
            <a:tbl>
              <a:tblPr/>
              <a:tblGrid>
                <a:gridCol w="1509840"/>
                <a:gridCol w="1509840"/>
                <a:gridCol w="1509480"/>
                <a:gridCol w="1511280"/>
                <a:gridCol w="150984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d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 (3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 (5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 (10 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17" name="Slide Number Placeholder 4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4B6AC-9D43-4FD2-B569-BE49A1CD1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399600"/>
            <a:ext cx="78868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28560" y="1244160"/>
            <a:ext cx="78868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anagement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F5591-2DDA-4BE9-A933-2088789E0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3" descr=""/>
          <p:cNvPicPr/>
          <p:nvPr/>
        </p:nvPicPr>
        <p:blipFill>
          <a:blip r:embed="rId1"/>
          <a:stretch/>
        </p:blipFill>
        <p:spPr>
          <a:xfrm>
            <a:off x="530280" y="1876320"/>
            <a:ext cx="808812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628560" y="206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fter his first clinic visit, the boy’s mother made a phone call to you. She informed that the boy was unwell. He had high grade fever associated with cough &amp; runny nose for the past 2 d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G was in the range of 12 - 15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uestion 6. How would you counsel the m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E570B-0F4D-4F14-8FB5-3BEDD5140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31920" y="2149560"/>
            <a:ext cx="8470800" cy="2963880"/>
          </a:xfrm>
          <a:prstGeom prst="rect">
            <a:avLst/>
          </a:prstGeom>
          <a:ln w="0">
            <a:noFill/>
          </a:ln>
        </p:spPr>
      </p:pic>
      <p:sp>
        <p:nvSpPr>
          <p:cNvPr id="88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ECDD8-246A-4D9B-840F-D645745A3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279000"/>
            <a:ext cx="78868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741240" y="1020600"/>
            <a:ext cx="7677360" cy="5316840"/>
          </a:xfrm>
          <a:prstGeom prst="rect">
            <a:avLst/>
          </a:prstGeom>
          <a:ln w="0">
            <a:noFill/>
          </a:ln>
        </p:spPr>
      </p:pic>
      <p:sp>
        <p:nvSpPr>
          <p:cNvPr id="886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C6399-0E2F-4D85-8C5A-7ECABF502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277560"/>
            <a:ext cx="788688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tretch/>
        </p:blipFill>
        <p:spPr>
          <a:xfrm>
            <a:off x="527040" y="893880"/>
            <a:ext cx="8172360" cy="7617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3" descr=""/>
          <p:cNvPicPr/>
          <p:nvPr/>
        </p:nvPicPr>
        <p:blipFill>
          <a:blip r:embed="rId2"/>
          <a:stretch/>
        </p:blipFill>
        <p:spPr>
          <a:xfrm>
            <a:off x="527040" y="1655640"/>
            <a:ext cx="8172360" cy="4745160"/>
          </a:xfrm>
          <a:prstGeom prst="rect">
            <a:avLst/>
          </a:prstGeom>
          <a:ln w="0">
            <a:noFill/>
          </a:ln>
        </p:spPr>
      </p:pic>
      <p:sp>
        <p:nvSpPr>
          <p:cNvPr id="890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43EA4-A6D6-4961-AF1E-63763B31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593280"/>
            <a:ext cx="7886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61800" y="1568520"/>
            <a:ext cx="85140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boy was under regular paediatric clinic follow-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5 years after diagnosis, his serial HbA1c was between 12 - 13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did not really monitor his BG at home &amp; he admitted missing 1 - 2  times insulin injection a we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7. What are the possible caus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f his poor glycaem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59EC1-0E81-475C-B56A-6AB82B3F1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399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628560" y="16840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sychosocial fac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sychosocial factors that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redict poor metabolic control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 T1D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ow family support/cohesio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ingle par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mily stress/confli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sence of psychiatric disorder/eating disord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xtreme peer press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thers - low conscientiousness , low self-efficacy, avoidant emotion-focused coping style, low executive funct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87195-A3F5-4A7F-89CF-396534C61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20110-2CE1-4D4E-97A3-E445C45EF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28560" y="2063520"/>
            <a:ext cx="788688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What are the causes of high BG readings based on the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C1F3E-9210-442B-A6D5-1A3AEF350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28560" y="1819080"/>
            <a:ext cx="7886880" cy="39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ismatch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between food intake &amp; insulin d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Wrong technique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of insulin in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Lipohypertrophy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(for long-standing diabetic patient that does not change injection si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9AB59-99C8-491C-BA0D-D6D597CAC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60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28560" y="2063520"/>
            <a:ext cx="78868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do you manage hyperglycaem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1333D-533A-4425-A9E3-2BA885E67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28560" y="1754280"/>
            <a:ext cx="788688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dentify the causes of hyper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 d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f the BG level is persistently above the target dur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breakfast: increase pre-dinner or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lunch: increase pre-breakfast rapid-acting or short-acting insulin, or pre-breakfast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Calibri"/>
              </a:rPr>
              <a:t>pre-dinner: increase pre-lunch rapid-acting or short-acting insulin, or pre-breakfast basal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ed to target basal insulin/background insulin first by increasing insulatard by adding 1 - 2 IU 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Insulin tech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6E4A1-FBC1-4483-9494-92B293B10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662040" y="1690560"/>
          <a:ext cx="7867440" cy="4295880"/>
        </p:xfrm>
        <a:graphic>
          <a:graphicData uri="http://schemas.openxmlformats.org/drawingml/2006/table">
            <a:tbl>
              <a:tblPr/>
              <a:tblGrid>
                <a:gridCol w="1206360"/>
                <a:gridCol w="1619280"/>
                <a:gridCol w="3414600"/>
                <a:gridCol w="16272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lood sugar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ulin dose (I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fast (8 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slices of bread, 1 bowl of rice (45 g) with 1 fried chicken drumstick, 1 cup of m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       (1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owl of chicken rice (60 g), plain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ner     (7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owl of rice (45 g), 1 fried egg, plain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time (10 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lass of chocolate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3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E5457-A57D-4DD4-A0B3-9D93D99AD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614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28560" y="2075040"/>
            <a:ext cx="7886880" cy="36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How should you advise patient in terms of medical nutrition therap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0FA4C-F029-4165-8069-6C673F9EF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5900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28560" y="2050920"/>
            <a:ext cx="78868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Total calorie intake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distributed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arbohydrate (carb) 50 - 5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t 25 - 3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 15 - 20% [high protein diet (&gt;25% total daily calorie intake) are not recommended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82D68-44E6-44E5-A6D4-BB434F8FA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3T01:54:39Z</dcterms:modified>
  <cp:revision>144</cp:revision>
  <dc:subject/>
  <dc:title>PowerPoint Presentation</dc:title>
</cp:coreProperties>
</file>